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wmf" ContentType="image/x-wmf"/>
  <Override PartName="/ppt/media/image56.wmf" ContentType="image/x-wmf"/>
  <Override PartName="/ppt/media/image54.wmf" ContentType="image/x-wmf"/>
  <Override PartName="/ppt/media/image29.gif" ContentType="image/gif"/>
  <Override PartName="/ppt/media/image53.wmf" ContentType="image/x-wmf"/>
  <Override PartName="/ppt/media/image28.gif" ContentType="image/gif"/>
  <Override PartName="/ppt/media/image52.gif" ContentType="image/gif"/>
  <Override PartName="/ppt/media/image12.wmf" ContentType="image/x-wmf"/>
  <Override PartName="/ppt/media/image51.gif" ContentType="image/gif"/>
  <Override PartName="/ppt/media/image1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1.wmf" ContentType="image/x-wmf"/>
  <Override PartName="/ppt/media/image16.gif" ContentType="image/gif"/>
  <Override PartName="/ppt/media/image19.png" ContentType="image/png"/>
  <Override PartName="/ppt/media/image40.wmf" ContentType="image/x-wmf"/>
  <Override PartName="/ppt/media/image3.gif" ContentType="image/gif"/>
  <Override PartName="/ppt/media/image39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2.png" ContentType="image/png"/>
  <Override PartName="/ppt/media/image31.png" ContentType="image/png"/>
  <Override PartName="/ppt/media/image30.gif" ContentType="image/gif"/>
  <Override PartName="/ppt/media/image55.wmf" ContentType="image/x-wmf"/>
  <Override PartName="/ppt/media/image22.gif" ContentType="image/gif"/>
  <Override PartName="/ppt/media/image60.png" ContentType="image/png"/>
  <Override PartName="/ppt/media/image6.jpeg" ContentType="image/jpeg"/>
  <Override PartName="/ppt/media/image58.wmf" ContentType="image/x-wmf"/>
  <Override PartName="/ppt/media/image24.wmf" ContentType="image/x-wmf"/>
  <Override PartName="/ppt/media/image59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27.png" ContentType="image/png"/>
  <Override PartName="/ppt/media/image84.wmf" ContentType="image/x-wmf"/>
  <Override PartName="/ppt/media/image72.wmf" ContentType="image/x-wmf"/>
  <Override PartName="/ppt/media/image81.wmf" ContentType="image/x-wmf"/>
  <Override PartName="/ppt/media/image79.wmf" ContentType="image/x-wmf"/>
  <Override PartName="/ppt/media/image77.wmf" ContentType="image/x-wmf"/>
  <Override PartName="/ppt/media/image76.wmf" ContentType="image/x-wmf"/>
  <Override PartName="/ppt/media/image75.png" ContentType="image/png"/>
  <Override PartName="/ppt/media/image74.wmf" ContentType="image/x-wmf"/>
  <Override PartName="/ppt/media/chimes.wav" ContentType="audio/x-wav"/>
  <Override PartName="/ppt/media/image69.wmf" ContentType="image/x-wmf"/>
  <Override PartName="/ppt/media/image73.wmf" ContentType="image/x-wmf"/>
  <Override PartName="/ppt/media/image71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83.wmf" ContentType="image/x-wmf"/>
  <Override PartName="/ppt/media/image18.wmf" ContentType="image/x-wmf"/>
  <Override PartName="/ppt/media/image20.png" ContentType="image/png"/>
  <Override PartName="/ppt/media/image86.jpeg" ContentType="image/jpeg"/>
  <Override PartName="/ppt/media/image82.wmf" ContentType="image/x-wmf"/>
  <Override PartName="/ppt/media/image17.wmf" ContentType="image/x-wmf"/>
  <Override PartName="/ppt/media/image49.wmf" ContentType="image/x-wmf"/>
  <Override PartName="/ppt/media/image78.gif" ContentType="image/gif"/>
  <Override PartName="/ppt/media/image38.wmf" ContentType="image/x-wmf"/>
  <Override PartName="/ppt/media/image80.wmf" ContentType="image/x-wmf"/>
  <Override PartName="/ppt/media/image15.wmf" ContentType="image/x-wmf"/>
  <Override PartName="/ppt/media/image21.png" ContentType="image/png"/>
  <Override PartName="/ppt/media/image1.jpeg" ContentType="image/jpeg"/>
  <Override PartName="/ppt/media/image14.wmf" ContentType="image/x-wmf"/>
  <Override PartName="/ppt/media/image48.wmf" ContentType="image/x-wmf"/>
  <Override PartName="/ppt/media/image50.png" ContentType="image/png"/>
  <Override PartName="/ppt/media/image8.wmf" ContentType="image/x-wmf"/>
  <Override PartName="/ppt/media/image85.wmf" ContentType="image/x-wmf"/>
  <Override PartName="/ppt/media/image10.gif" ContentType="image/gif"/>
  <Override PartName="/ppt/media/image43.wmf" ContentType="image/x-wmf"/>
  <Override PartName="/ppt/media/image42.gif" ContentType="image/gif"/>
  <Override PartName="/ppt/media/image2.gif" ContentType="image/gif"/>
  <Override PartName="/ppt/media/image5.png" ContentType="image/png"/>
  <Override PartName="/ppt/media/image13.wmf" ContentType="image/x-wmf"/>
  <Override PartName="/ppt/media/image23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320-D776-4770-B89E-3B814C62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8909-04E9-4A75-8251-20D55B8C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C410-9C16-4716-BDD9-F4D3EB3B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59D-B941-4541-95CB-73F7EFA8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F34-8F3B-4AC6-B61C-63560048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054-A79D-4EDA-8655-6DE0255E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6D7-C85F-4F85-AA5D-4DA5CDAF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F98-AA62-4AD2-8B10-EB49D30E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085-D01F-4BA4-8662-2E821D4D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F96-D002-43F8-BA8A-09232565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5E7F-EE30-47DC-9B52-46FE3D25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51E-6053-4A50-BC75-55429839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7A4A-DF36-48EA-8BEE-C6F8320C9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22.gi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wmf"/><Relationship Id="rId8" Type="http://schemas.openxmlformats.org/officeDocument/2006/relationships/image" Target="../media/image49.wmf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50.png"/><Relationship Id="rId13" Type="http://schemas.openxmlformats.org/officeDocument/2006/relationships/image" Target="../media/image50.png"/><Relationship Id="rId14" Type="http://schemas.openxmlformats.org/officeDocument/2006/relationships/image" Target="../media/image50.png"/><Relationship Id="rId1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image" Target="../media/image67.wmf"/><Relationship Id="rId7" Type="http://schemas.openxmlformats.org/officeDocument/2006/relationships/image" Target="../media/image68.wmf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wmf"/><Relationship Id="rId3" Type="http://schemas.openxmlformats.org/officeDocument/2006/relationships/image" Target="../media/image70.wmf"/><Relationship Id="rId4" Type="http://schemas.openxmlformats.org/officeDocument/2006/relationships/image" Target="../media/image71.wmf"/><Relationship Id="rId5" Type="http://schemas.openxmlformats.org/officeDocument/2006/relationships/image" Target="../media/image72.wmf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png"/><Relationship Id="rId3" Type="http://schemas.openxmlformats.org/officeDocument/2006/relationships/image" Target="../media/image75.png"/><Relationship Id="rId4" Type="http://schemas.openxmlformats.org/officeDocument/2006/relationships/image" Target="../media/image75.png"/><Relationship Id="rId5" Type="http://schemas.openxmlformats.org/officeDocument/2006/relationships/image" Target="../media/image75.png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png"/><Relationship Id="rId3" Type="http://schemas.openxmlformats.org/officeDocument/2006/relationships/image" Target="../media/image75.png"/><Relationship Id="rId4" Type="http://schemas.openxmlformats.org/officeDocument/2006/relationships/image" Target="../media/image75.png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2.gif"/><Relationship Id="rId5" Type="http://schemas.openxmlformats.org/officeDocument/2006/relationships/image" Target="../media/image78.gif"/><Relationship Id="rId6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wmf"/><Relationship Id="rId3" Type="http://schemas.openxmlformats.org/officeDocument/2006/relationships/image" Target="../media/image7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3.2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解一元一次方程</a:t>
            </a: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--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合并同类项与移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981080"/>
            <a:ext cx="59436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67080" y="996840"/>
            <a:ext cx="55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81200" y="2898720"/>
            <a:ext cx="45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65360" y="4551480"/>
            <a:ext cx="56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5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36880" y="15796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52720" y="2155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49480" y="351324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49480" y="4032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67120" y="5141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.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.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95000" y="1724040"/>
            <a:ext cx="729000" cy="32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合并同类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78280" y="57690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79480" y="2136600"/>
            <a:ext cx="944640" cy="93060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实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00960" y="2098800"/>
            <a:ext cx="1606320" cy="93024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一元一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79480" y="4202280"/>
            <a:ext cx="727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分析实际问题中的数量关系，利用其中的相等关系列出方程，是解决实际问题的一种数学方法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8160" y="2027160"/>
            <a:ext cx="4762800" cy="1139760"/>
          </a:xfrm>
          <a:prstGeom prst="rightArrow">
            <a:avLst>
              <a:gd name="adj1" fmla="val 50000"/>
              <a:gd name="adj2" fmla="val 104469"/>
            </a:avLst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设未知数  列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79480" y="716040"/>
            <a:ext cx="7832880" cy="604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95560" y="5064120"/>
            <a:ext cx="2365200" cy="1146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138640" y="4668840"/>
            <a:ext cx="2979720" cy="968400"/>
          </a:xfrm>
          <a:prstGeom prst="cloudCallout">
            <a:avLst>
              <a:gd name="adj1" fmla="val -76958"/>
              <a:gd name="adj2" fmla="val 7934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怎样解方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85800" y="404640"/>
            <a:ext cx="8209080" cy="2031840"/>
            <a:chOff x="685800" y="404640"/>
            <a:chExt cx="8209080" cy="2031840"/>
          </a:xfrm>
        </p:grpSpPr>
        <p:sp>
          <p:nvSpPr>
            <p:cNvPr id="97" name=""/>
            <p:cNvSpPr/>
            <p:nvPr/>
          </p:nvSpPr>
          <p:spPr>
            <a:xfrm>
              <a:off x="685800" y="404640"/>
              <a:ext cx="8209080" cy="13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问题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：在一卷公元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6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年左右遗留下来的古埃及草卷中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记载者一些数学问题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其中一个问题翻译过来是：“啊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它的全部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它的   其和等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6”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能求出问题中的“它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5776920" y="1641240"/>
              <a:ext cx="307800" cy="79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528480" y="2816280"/>
            <a:ext cx="7975440" cy="2058120"/>
            <a:chOff x="528480" y="2816280"/>
            <a:chExt cx="7975440" cy="2058120"/>
          </a:xfrm>
        </p:grpSpPr>
        <p:sp>
          <p:nvSpPr>
            <p:cNvPr id="100" name=""/>
            <p:cNvSpPr/>
            <p:nvPr/>
          </p:nvSpPr>
          <p:spPr>
            <a:xfrm>
              <a:off x="528480" y="2967120"/>
              <a:ext cx="7975440" cy="19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  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解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: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设问题中的它为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，则：它的   为    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根据问题中的相等关系：它的全部＋它的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6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．可列方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4"/>
            <a:stretch/>
          </p:blipFill>
          <p:spPr>
            <a:xfrm>
              <a:off x="6472080" y="2816280"/>
              <a:ext cx="3078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5"/>
            <a:stretch/>
          </p:blipFill>
          <p:spPr>
            <a:xfrm>
              <a:off x="7070400" y="2859120"/>
              <a:ext cx="489240" cy="72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6"/>
            <a:stretch/>
          </p:blipFill>
          <p:spPr>
            <a:xfrm>
              <a:off x="7070400" y="3510000"/>
              <a:ext cx="308160" cy="79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685800" y="563724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50960" y="2335320"/>
            <a:ext cx="24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并同类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08520" y="4006800"/>
            <a:ext cx="12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数化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88920" y="1081080"/>
            <a:ext cx="2860560" cy="1146240"/>
            <a:chOff x="988920" y="1081080"/>
            <a:chExt cx="2860560" cy="114624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1287360" y="1081080"/>
              <a:ext cx="24051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988920" y="1081080"/>
              <a:ext cx="2860560" cy="114624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28920" y="2900520"/>
            <a:ext cx="1533240" cy="876240"/>
            <a:chOff x="1528920" y="2900520"/>
            <a:chExt cx="1533240" cy="876240"/>
          </a:xfrm>
        </p:grpSpPr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1585800" y="2900520"/>
              <a:ext cx="142200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528920" y="2900520"/>
              <a:ext cx="1533240" cy="87624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793880" y="4683240"/>
            <a:ext cx="1206360" cy="520560"/>
            <a:chOff x="1793880" y="4683240"/>
            <a:chExt cx="1206360" cy="520560"/>
          </a:xfrm>
        </p:grpSpPr>
        <p:sp>
          <p:nvSpPr>
            <p:cNvPr id="114" name=""/>
            <p:cNvSpPr/>
            <p:nvPr/>
          </p:nvSpPr>
          <p:spPr>
            <a:xfrm>
              <a:off x="1793880" y="4683240"/>
              <a:ext cx="109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06480" y="4683240"/>
              <a:ext cx="1193760" cy="51912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168640" y="2335320"/>
            <a:ext cx="353880" cy="519120"/>
          </a:xfrm>
          <a:prstGeom prst="downArrow">
            <a:avLst>
              <a:gd name="adj1" fmla="val 50000"/>
              <a:gd name="adj2" fmla="val 36673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06800" y="4021200"/>
            <a:ext cx="353880" cy="519120"/>
          </a:xfrm>
          <a:prstGeom prst="downArrow">
            <a:avLst>
              <a:gd name="adj1" fmla="val 50000"/>
              <a:gd name="adj2" fmla="val 36673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32280" y="1751040"/>
            <a:ext cx="3853080" cy="1373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分析：解方程，就是把方程变形，变为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x = a</a:t>
            </a:r>
            <a:r>
              <a:rPr b="0" lang="zh-CN" sz="2800" spc="-1" strike="noStrike">
                <a:solidFill>
                  <a:srgbClr val="ff3300"/>
                </a:solidFill>
                <a:latin typeface="方正舒体"/>
                <a:ea typeface="方正舒体"/>
              </a:rPr>
              <a:t>（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为常数）的形式</a:t>
            </a:r>
            <a:r>
              <a:rPr b="0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6200" y="5583240"/>
            <a:ext cx="46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题中的它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36800" y="1068480"/>
            <a:ext cx="62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解方程中“合并”起了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7000" y="3530520"/>
            <a:ext cx="7659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方程中的“合并”是利用分配律将含有未知数的项和常数项分别合并为一项．它使方程变得简单，更接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 = 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形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27000" y="1111320"/>
            <a:ext cx="1181160" cy="1936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871800" y="1727280"/>
            <a:ext cx="1625760" cy="16254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26920" y="3513240"/>
            <a:ext cx="7702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11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设计划生产Ⅰ型电视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台，则计划生产Ⅱ型电视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台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计划生产Ⅲ型电视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0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台，列方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47840" y="5100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8400" y="1468440"/>
            <a:ext cx="7702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某电视机厂今年计划生产电视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1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台，其中Ⅰ型，Ⅱ型，Ⅲ型三种电视机的数量之比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:15: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这三种电视机计划各生产多少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47840" y="5602320"/>
            <a:ext cx="50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0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1 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074600" y="353880"/>
            <a:ext cx="2620800" cy="852480"/>
            <a:chOff x="1074600" y="353880"/>
            <a:chExt cx="2620800" cy="852480"/>
          </a:xfrm>
        </p:grpSpPr>
        <p:sp>
          <p:nvSpPr>
            <p:cNvPr id="129" name=""/>
            <p:cNvSpPr/>
            <p:nvPr/>
          </p:nvSpPr>
          <p:spPr>
            <a:xfrm>
              <a:off x="1542960" y="41256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1074600" y="35388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58880" y="5105520"/>
            <a:ext cx="744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 Ⅰ型电视机计划生产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台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型电视机计划生产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900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台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Ⅲ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型电视机计划生产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200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台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78040" y="919080"/>
            <a:ext cx="33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合并同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43320" y="153504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6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1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78040" y="2467080"/>
            <a:ext cx="29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系数化成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35440" y="2986200"/>
            <a:ext cx="18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8880" y="3567240"/>
            <a:ext cx="789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计划生产Ⅱ型电视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00×1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900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台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计划生产Ⅲ型电视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00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200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台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53040" y="1081080"/>
            <a:ext cx="2381400" cy="19051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32000" y="3125880"/>
            <a:ext cx="6089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合并同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系数化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32000" y="1106640"/>
            <a:ext cx="44481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解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06640" y="2222640"/>
            <a:ext cx="46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25560" y="2581200"/>
            <a:ext cx="466092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合并同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87520" y="405936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系数化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522600" y="4686480"/>
            <a:ext cx="831960" cy="1056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825560" y="1017720"/>
            <a:ext cx="3691080" cy="990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8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8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8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8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41520" y="2290680"/>
            <a:ext cx="4108320" cy="20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合并同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系数化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12840" y="1143000"/>
            <a:ext cx="59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5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135240" y="4541760"/>
            <a:ext cx="1103400" cy="10112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6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345760" y="2554200"/>
            <a:ext cx="408204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请欣赏一首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0202"/>
                </a:solidFill>
                <a:latin typeface="Times New Roman"/>
                <a:ea typeface="楷体_GB2312"/>
              </a:rPr>
              <a:t>太阳下山晚霞红，我把鸭子赶回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0202"/>
                </a:solidFill>
                <a:latin typeface="Times New Roman"/>
                <a:ea typeface="楷体_GB2312"/>
              </a:rPr>
              <a:t>一半在外闹哄哄，一半的一半进笼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0202"/>
                </a:solidFill>
                <a:latin typeface="Times New Roman"/>
                <a:ea typeface="楷体_GB2312"/>
              </a:rPr>
              <a:t>剩下十五围着我，共有多少请算清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200" y="5367240"/>
            <a:ext cx="650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你能列出方程来解决这个问题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95480" y="44038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823840" y="31680"/>
            <a:ext cx="2849400" cy="1709640"/>
            <a:chOff x="2823840" y="31680"/>
            <a:chExt cx="2849400" cy="1709640"/>
          </a:xfrm>
        </p:grpSpPr>
        <p:sp>
          <p:nvSpPr>
            <p:cNvPr id="46" name="filecab3"/>
            <p:cNvSpPr/>
            <p:nvPr/>
          </p:nvSpPr>
          <p:spPr>
            <a:xfrm rot="10800000">
              <a:off x="2823840" y="90288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新课导入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3441600" y="3168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437600" y="127476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730920" y="4983120"/>
            <a:ext cx="1725840" cy="1390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33640" y="1185840"/>
            <a:ext cx="686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×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84360" y="2212920"/>
            <a:ext cx="5264280" cy="32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合并同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系数化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19000" y="2184480"/>
            <a:ext cx="75567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5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5×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46440" y="2841480"/>
            <a:ext cx="16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68760" y="4157640"/>
            <a:ext cx="19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882880" y="5400720"/>
            <a:ext cx="1308240" cy="86364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1274760" y="184320"/>
            <a:ext cx="2620800" cy="852480"/>
            <a:chOff x="1274760" y="184320"/>
            <a:chExt cx="2620800" cy="852480"/>
          </a:xfrm>
        </p:grpSpPr>
        <p:sp>
          <p:nvSpPr>
            <p:cNvPr id="155" name=""/>
            <p:cNvSpPr/>
            <p:nvPr/>
          </p:nvSpPr>
          <p:spPr>
            <a:xfrm>
              <a:off x="1743120" y="24300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1274760" y="18432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1117440" y="1189080"/>
            <a:ext cx="44481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下列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19320" y="21463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简单方程解法步骤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68520" y="3263760"/>
            <a:ext cx="45702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移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合并同类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系数化为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122640" y="636480"/>
            <a:ext cx="2770200" cy="947880"/>
            <a:chOff x="3122640" y="636480"/>
            <a:chExt cx="2770200" cy="947880"/>
          </a:xfrm>
        </p:grpSpPr>
        <p:sp>
          <p:nvSpPr>
            <p:cNvPr id="161" name=""/>
            <p:cNvSpPr txBox="1"/>
            <p:nvPr/>
          </p:nvSpPr>
          <p:spPr>
            <a:xfrm>
              <a:off x="3122640" y="86040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>
              <a:off x="4986360" y="636480"/>
              <a:ext cx="906480" cy="947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plit dir="in" orient="vert"/>
    <p:sndAc>
      <p:stSnd>
        <p:snd r:embed="rId6" name="chimes.wav"/>
      </p:stSnd>
    </p:sndAc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555480"/>
            <a:ext cx="7772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有一批学生去游玩，若每辆车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，则还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没座；若每辆车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，则还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没座，求有多少辆车，多少学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12880" y="215280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设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辆车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每辆车坐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，共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3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，加上没座的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，共有学生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3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若每辆车坐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，共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5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，加上没座的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，共有学生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5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找相等关系：学生的总人数是一个定值，表示它的两个式子应相等，所以列方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3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5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4964040"/>
            <a:ext cx="3098880" cy="968400"/>
          </a:xfrm>
          <a:prstGeom prst="cloudCallout">
            <a:avLst>
              <a:gd name="adj1" fmla="val -65574"/>
              <a:gd name="adj2" fmla="val 7049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怎样解方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66840" y="1154160"/>
            <a:ext cx="32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3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66840" y="274788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3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8400" y="1914480"/>
            <a:ext cx="64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3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5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5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5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73760" y="274788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式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66960" y="1673280"/>
            <a:ext cx="250920" cy="1208160"/>
          </a:xfrm>
          <a:prstGeom prst="downArrow">
            <a:avLst>
              <a:gd name="adj1" fmla="val 50000"/>
              <a:gd name="adj2" fmla="val 1203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未知"/>
          <p:cNvSpPr/>
          <p:nvPr/>
        </p:nvSpPr>
        <p:spPr>
          <a:xfrm>
            <a:off x="2281320" y="1581120"/>
            <a:ext cx="1046160" cy="1166760"/>
          </a:xfrm>
          <a:custGeom>
            <a:avLst/>
            <a:gdLst/>
            <a:ahLst/>
            <a:rect l="l" t="t" r="r" b="b"/>
            <a:pathLst>
              <a:path w="659" h="790">
                <a:moveTo>
                  <a:pt x="659" y="0"/>
                </a:moveTo>
                <a:lnTo>
                  <a:pt x="659" y="325"/>
                </a:lnTo>
                <a:lnTo>
                  <a:pt x="0" y="316"/>
                </a:lnTo>
                <a:lnTo>
                  <a:pt x="9" y="790"/>
                </a:ln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2532240" y="1581120"/>
            <a:ext cx="1458720" cy="1225440"/>
          </a:xfrm>
          <a:custGeom>
            <a:avLst/>
            <a:gdLst/>
            <a:ahLst/>
            <a:rect l="l" t="t" r="r" b="b"/>
            <a:pathLst>
              <a:path w="919" h="790">
                <a:moveTo>
                  <a:pt x="0" y="0"/>
                </a:moveTo>
                <a:lnTo>
                  <a:pt x="9" y="585"/>
                </a:lnTo>
                <a:lnTo>
                  <a:pt x="910" y="585"/>
                </a:lnTo>
                <a:lnTo>
                  <a:pt x="919" y="790"/>
                </a:ln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68480" y="1182600"/>
            <a:ext cx="649440" cy="398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1640" y="1182600"/>
            <a:ext cx="600120" cy="398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68480" y="2806560"/>
            <a:ext cx="798480" cy="398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98840" y="2806560"/>
            <a:ext cx="801720" cy="398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46080" y="5103720"/>
            <a:ext cx="6759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等式一边的某一项变号后移到另一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24040" y="4092480"/>
            <a:ext cx="3886200" cy="6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你发现了什么？</a:t>
            </a:r>
            <a:endParaRPr b="1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79" name=""/>
          <p:cNvSpPr/>
          <p:nvPr/>
        </p:nvSpPr>
        <p:spPr>
          <a:xfrm>
            <a:off x="4546440" y="2867040"/>
            <a:ext cx="412920" cy="324000"/>
          </a:xfrm>
          <a:prstGeom prst="rightArrow">
            <a:avLst>
              <a:gd name="adj1" fmla="val 50000"/>
              <a:gd name="adj2" fmla="val 31861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943360" y="1301760"/>
            <a:ext cx="18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移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90040" y="2608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并同类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14480" y="397980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数化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733400" y="4556160"/>
            <a:ext cx="1490760" cy="520560"/>
            <a:chOff x="1733400" y="4556160"/>
            <a:chExt cx="1490760" cy="520560"/>
          </a:xfrm>
        </p:grpSpPr>
        <p:sp>
          <p:nvSpPr>
            <p:cNvPr id="184" name=""/>
            <p:cNvSpPr/>
            <p:nvPr/>
          </p:nvSpPr>
          <p:spPr>
            <a:xfrm>
              <a:off x="1941480" y="4556160"/>
              <a:ext cx="109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33400" y="4556160"/>
              <a:ext cx="1490760" cy="5191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722600" y="3328920"/>
            <a:ext cx="1984320" cy="520560"/>
            <a:chOff x="1722600" y="3328920"/>
            <a:chExt cx="1984320" cy="520560"/>
          </a:xfrm>
        </p:grpSpPr>
        <p:sp>
          <p:nvSpPr>
            <p:cNvPr id="187" name=""/>
            <p:cNvSpPr/>
            <p:nvPr/>
          </p:nvSpPr>
          <p:spPr>
            <a:xfrm>
              <a:off x="1828440" y="3328920"/>
              <a:ext cx="179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22600" y="3328920"/>
              <a:ext cx="1984320" cy="5191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344240" y="2031840"/>
            <a:ext cx="3375360" cy="520560"/>
            <a:chOff x="1344240" y="2031840"/>
            <a:chExt cx="3375360" cy="520560"/>
          </a:xfrm>
        </p:grpSpPr>
        <p:sp>
          <p:nvSpPr>
            <p:cNvPr id="190" name=""/>
            <p:cNvSpPr/>
            <p:nvPr/>
          </p:nvSpPr>
          <p:spPr>
            <a:xfrm>
              <a:off x="1344240" y="2031840"/>
              <a:ext cx="311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3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5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0160" y="2031840"/>
              <a:ext cx="3349440" cy="5191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386000" y="654120"/>
            <a:ext cx="4081320" cy="520560"/>
            <a:chOff x="1386000" y="654120"/>
            <a:chExt cx="4081320" cy="520560"/>
          </a:xfrm>
        </p:grpSpPr>
        <p:sp>
          <p:nvSpPr>
            <p:cNvPr id="193" name=""/>
            <p:cNvSpPr/>
            <p:nvPr/>
          </p:nvSpPr>
          <p:spPr>
            <a:xfrm>
              <a:off x="1386000" y="654120"/>
              <a:ext cx="408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3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5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86000" y="654120"/>
              <a:ext cx="3333600" cy="5191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452680" y="1173240"/>
            <a:ext cx="405000" cy="858600"/>
          </a:xfrm>
          <a:prstGeom prst="downArrow">
            <a:avLst>
              <a:gd name="adj1" fmla="val 50000"/>
              <a:gd name="adj2" fmla="val 53000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92200" y="3871800"/>
            <a:ext cx="405000" cy="627120"/>
          </a:xfrm>
          <a:prstGeom prst="downArrow">
            <a:avLst>
              <a:gd name="adj1" fmla="val 50000"/>
              <a:gd name="adj2" fmla="val 38711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35400" y="2550960"/>
            <a:ext cx="404640" cy="771840"/>
          </a:xfrm>
          <a:prstGeom prst="downArrow">
            <a:avLst>
              <a:gd name="adj1" fmla="val 50000"/>
              <a:gd name="adj2" fmla="val 4768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1720" y="5738760"/>
            <a:ext cx="539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辆车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6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学生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2480" y="5219640"/>
            <a:ext cx="75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所以学生总人数为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3×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6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人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80920" y="2268360"/>
            <a:ext cx="708660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移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　　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把等式一边的某项变号后移到另一边，叫做移项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81160" y="1052640"/>
            <a:ext cx="3838680" cy="782640"/>
            <a:chOff x="2981160" y="1052640"/>
            <a:chExt cx="3838680" cy="782640"/>
          </a:xfrm>
        </p:grpSpPr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5819760" y="105264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981160" y="1165320"/>
              <a:ext cx="2662200" cy="66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8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8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8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8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43080" y="4100400"/>
            <a:ext cx="7300800" cy="106884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通过移项，含未知数的项与常数项分别位于方程左右两边，使方程更接近于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x=a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形式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00280" y="1440000"/>
            <a:ext cx="2014200" cy="2085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032280" y="801720"/>
            <a:ext cx="4587840" cy="1233360"/>
          </a:xfrm>
          <a:prstGeom prst="wedgeRoundRectCallout">
            <a:avLst>
              <a:gd name="adj1" fmla="val -65259"/>
              <a:gd name="adj2" fmla="val 66087"/>
              <a:gd name="adj3" fmla="val 1666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以上解方程中“移项”起了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629160" y="2603520"/>
            <a:ext cx="2619360" cy="12412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31880" y="118440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的移项对不对？如果不对，请改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0960" y="23558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ｘ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ｘ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0960" y="3772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ｘ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ｘ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ｘ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ｘ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0960" y="50785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从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ｘ，得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14720" y="2987640"/>
            <a:ext cx="26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22560" y="43736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82720" y="5788080"/>
            <a:ext cx="35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022400" y="336600"/>
            <a:ext cx="2620800" cy="852480"/>
            <a:chOff x="1022400" y="336600"/>
            <a:chExt cx="2620800" cy="852480"/>
          </a:xfrm>
        </p:grpSpPr>
        <p:sp>
          <p:nvSpPr>
            <p:cNvPr id="216" name=""/>
            <p:cNvSpPr/>
            <p:nvPr/>
          </p:nvSpPr>
          <p:spPr>
            <a:xfrm>
              <a:off x="1490760" y="39528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1022400" y="33660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470640" y="229716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6789600" y="371304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8224920" y="4959360"/>
            <a:ext cx="637920" cy="6382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19160" y="2414520"/>
            <a:ext cx="71960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列移项正确的是（    　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得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得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得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得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87800" y="2371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93680" y="831960"/>
            <a:ext cx="2620800" cy="852480"/>
            <a:chOff x="1093680" y="831960"/>
            <a:chExt cx="2620800" cy="852480"/>
          </a:xfrm>
        </p:grpSpPr>
        <p:sp>
          <p:nvSpPr>
            <p:cNvPr id="224" name=""/>
            <p:cNvSpPr/>
            <p:nvPr/>
          </p:nvSpPr>
          <p:spPr>
            <a:xfrm>
              <a:off x="1562040" y="89064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1093680" y="83196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d"/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23840" y="10191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762120"/>
            <a:ext cx="76881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0202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希腊数学家丢番图（公元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～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世纪）的墓碑上记载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0202"/>
                </a:solidFill>
                <a:latin typeface="Times New Roman"/>
                <a:ea typeface="楷体_GB2312"/>
              </a:rPr>
              <a:t>      </a:t>
            </a:r>
            <a:r>
              <a:rPr b="1" lang="zh-CN" sz="3000" spc="-1" strike="noStrike">
                <a:solidFill>
                  <a:srgbClr val="020202"/>
                </a:solidFill>
                <a:latin typeface="Times New Roman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020202"/>
                </a:solidFill>
                <a:latin typeface="Times New Roman"/>
                <a:ea typeface="楷体_GB2312"/>
              </a:rPr>
              <a:t>他的生命的六分之一是幸福童年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20202"/>
                </a:solidFill>
                <a:latin typeface="Times New Roman"/>
                <a:ea typeface="楷体_GB2312"/>
              </a:rPr>
              <a:t>       </a:t>
            </a:r>
            <a:r>
              <a:rPr b="1" lang="zh-CN" sz="3000" spc="-1" strike="noStrike">
                <a:solidFill>
                  <a:srgbClr val="020202"/>
                </a:solidFill>
                <a:latin typeface="Times New Roman"/>
                <a:ea typeface="楷体_GB2312"/>
              </a:rPr>
              <a:t>再活了他生命的十二分之一，两颊长起了细细的胡须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20202"/>
                </a:solidFill>
                <a:latin typeface="Times New Roman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020202"/>
                </a:solidFill>
                <a:latin typeface="Times New Roman"/>
                <a:ea typeface="楷体_GB2312"/>
              </a:rPr>
              <a:t>他结了婚，又度过了一生的七分之一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20202"/>
                </a:solidFill>
                <a:latin typeface="Times New Roman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020202"/>
                </a:solidFill>
                <a:latin typeface="Times New Roman"/>
                <a:ea typeface="楷体_GB2312"/>
              </a:rPr>
              <a:t>再过五年，他有了儿子，感到很幸福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20202"/>
                </a:solidFill>
                <a:latin typeface="Times New Roman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020202"/>
                </a:solidFill>
                <a:latin typeface="Times New Roman"/>
                <a:ea typeface="楷体_GB2312"/>
              </a:rPr>
              <a:t>可是儿子只活了他父亲年龄的一半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20202"/>
                </a:solidFill>
                <a:latin typeface="Times New Roman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020202"/>
                </a:solidFill>
                <a:latin typeface="Times New Roman"/>
                <a:ea typeface="楷体_GB2312"/>
              </a:rPr>
              <a:t>儿子死后，他在极悲痛中度过了四年，也与世长辞了．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5000" y="551664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根据以上信息，你知道丢番图活了多少岁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50920" y="743040"/>
            <a:ext cx="46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解下列方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50920" y="1693800"/>
            <a:ext cx="3905280" cy="1139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150920" y="2363760"/>
            <a:ext cx="39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81200" y="2719440"/>
            <a:ext cx="37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41320" y="3659040"/>
            <a:ext cx="36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合并同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4178160"/>
            <a:ext cx="18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89280" y="4870440"/>
            <a:ext cx="30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系数化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21040" y="5389560"/>
            <a:ext cx="16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495760" y="2790720"/>
            <a:ext cx="2955960" cy="1687680"/>
            <a:chOff x="5495760" y="2790720"/>
            <a:chExt cx="2955960" cy="1687680"/>
          </a:xfrm>
        </p:grpSpPr>
        <p:sp>
          <p:nvSpPr>
            <p:cNvPr id="235" name=""/>
            <p:cNvSpPr/>
            <p:nvPr/>
          </p:nvSpPr>
          <p:spPr>
            <a:xfrm>
              <a:off x="5495760" y="2790720"/>
              <a:ext cx="2955960" cy="16876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31840" y="2867040"/>
              <a:ext cx="240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87280" y="3859200"/>
              <a:ext cx="240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54560" y="2992320"/>
              <a:ext cx="542880" cy="3063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99200" y="3983040"/>
              <a:ext cx="714240" cy="3045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40480" y="3983040"/>
              <a:ext cx="609480" cy="3078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99120" y="2954160"/>
              <a:ext cx="441360" cy="3445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6389640" y="3306600"/>
              <a:ext cx="1319040" cy="652680"/>
            </a:xfrm>
            <a:custGeom>
              <a:avLst/>
              <a:gdLst/>
              <a:ahLst/>
              <a:rect l="l" t="t" r="r" b="b"/>
              <a:pathLst>
                <a:path w="831" h="411">
                  <a:moveTo>
                    <a:pt x="3" y="0"/>
                  </a:moveTo>
                  <a:lnTo>
                    <a:pt x="0" y="156"/>
                  </a:lnTo>
                  <a:lnTo>
                    <a:pt x="825" y="150"/>
                  </a:lnTo>
                  <a:cubicBezTo>
                    <a:pt x="827" y="237"/>
                    <a:pt x="831" y="324"/>
                    <a:pt x="831" y="4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6694200" y="3311280"/>
              <a:ext cx="519120" cy="648000"/>
            </a:xfrm>
            <a:custGeom>
              <a:avLst/>
              <a:gdLst/>
              <a:ahLst/>
              <a:rect l="l" t="t" r="r" b="b"/>
              <a:pathLst>
                <a:path w="327" h="408">
                  <a:moveTo>
                    <a:pt x="327" y="0"/>
                  </a:moveTo>
                  <a:lnTo>
                    <a:pt x="327" y="234"/>
                  </a:lnTo>
                  <a:lnTo>
                    <a:pt x="0" y="240"/>
                  </a:lnTo>
                  <a:lnTo>
                    <a:pt x="3" y="4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905040" y="6053040"/>
            <a:ext cx="535284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移项时应注意改变项的符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8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081080" y="642960"/>
            <a:ext cx="2884320" cy="731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988920" y="157644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569960" y="2157480"/>
            <a:ext cx="2933640" cy="8762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263600" y="3214800"/>
            <a:ext cx="34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合并同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000160" y="3733920"/>
            <a:ext cx="1474920" cy="8953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263600" y="486396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系数化成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2000160" y="5383080"/>
            <a:ext cx="1168560" cy="876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4875120" y="2452680"/>
            <a:ext cx="3768840" cy="3284640"/>
            <a:chOff x="4875120" y="2452680"/>
            <a:chExt cx="3768840" cy="3284640"/>
          </a:xfrm>
        </p:grpSpPr>
        <p:sp>
          <p:nvSpPr>
            <p:cNvPr id="253" name=""/>
            <p:cNvSpPr/>
            <p:nvPr/>
          </p:nvSpPr>
          <p:spPr>
            <a:xfrm>
              <a:off x="4875120" y="2452680"/>
              <a:ext cx="3768840" cy="3284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5263920" y="2603520"/>
              <a:ext cx="24498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5232240" y="4991040"/>
              <a:ext cx="293364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765760" y="2814480"/>
              <a:ext cx="542880" cy="3063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53160" y="5168880"/>
              <a:ext cx="714600" cy="3049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5200" y="4979880"/>
              <a:ext cx="930240" cy="6699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38760" y="2602080"/>
              <a:ext cx="542880" cy="7506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6000480" y="3157560"/>
              <a:ext cx="1812960" cy="1871640"/>
            </a:xfrm>
            <a:custGeom>
              <a:avLst/>
              <a:gdLst/>
              <a:ahLst/>
              <a:rect l="l" t="t" r="r" b="b"/>
              <a:pathLst>
                <a:path w="831" h="411">
                  <a:moveTo>
                    <a:pt x="3" y="0"/>
                  </a:moveTo>
                  <a:lnTo>
                    <a:pt x="0" y="156"/>
                  </a:lnTo>
                  <a:lnTo>
                    <a:pt x="825" y="150"/>
                  </a:lnTo>
                  <a:cubicBezTo>
                    <a:pt x="827" y="237"/>
                    <a:pt x="831" y="324"/>
                    <a:pt x="831" y="4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6335640" y="3395520"/>
              <a:ext cx="677880" cy="1548000"/>
            </a:xfrm>
            <a:custGeom>
              <a:avLst/>
              <a:gdLst/>
              <a:ahLst/>
              <a:rect l="l" t="t" r="r" b="b"/>
              <a:pathLst>
                <a:path w="327" h="408">
                  <a:moveTo>
                    <a:pt x="327" y="0"/>
                  </a:moveTo>
                  <a:lnTo>
                    <a:pt x="327" y="234"/>
                  </a:lnTo>
                  <a:lnTo>
                    <a:pt x="0" y="240"/>
                  </a:lnTo>
                  <a:lnTo>
                    <a:pt x="3" y="4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43120" y="186516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下列方程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0800" y="267336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7960" y="374796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x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－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863640" y="4640400"/>
            <a:ext cx="4635360" cy="12826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473720" y="2798640"/>
            <a:ext cx="16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630760" y="389736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211800" y="4811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5689440" y="5046840"/>
            <a:ext cx="1447920" cy="87624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985680" y="687240"/>
            <a:ext cx="2620800" cy="852480"/>
            <a:chOff x="985680" y="687240"/>
            <a:chExt cx="2620800" cy="852480"/>
          </a:xfrm>
        </p:grpSpPr>
        <p:sp>
          <p:nvSpPr>
            <p:cNvPr id="271" name=""/>
            <p:cNvSpPr/>
            <p:nvPr/>
          </p:nvSpPr>
          <p:spPr>
            <a:xfrm>
              <a:off x="1454040" y="74592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4"/>
            <a:stretch/>
          </p:blipFill>
          <p:spPr>
            <a:xfrm>
              <a:off x="985680" y="68724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newsflash/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0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5760" y="2173320"/>
            <a:ext cx="820260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2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解方程的步骤及依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　</a:t>
            </a:r>
            <a:r>
              <a:rPr b="1" lang="en-US" sz="3200" spc="-1" strike="noStrike">
                <a:solidFill>
                  <a:srgbClr val="ff3300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．移项（等式的性质</a:t>
            </a:r>
            <a:r>
              <a:rPr b="1" lang="en-US" sz="3200" spc="-1" strike="noStrike">
                <a:solidFill>
                  <a:srgbClr val="ff3300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　　 合并（分配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　　 系数化为</a:t>
            </a:r>
            <a:r>
              <a:rPr b="1" lang="en-US" sz="3200" spc="-1" strike="noStrike">
                <a:solidFill>
                  <a:srgbClr val="ff3300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（等式的性质</a:t>
            </a:r>
            <a:r>
              <a:rPr b="1" lang="en-US" sz="3200" spc="-1" strike="noStrike">
                <a:solidFill>
                  <a:srgbClr val="ff3300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．“对消”与“还原”就是“合并”与“移项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　</a:t>
            </a:r>
            <a:r>
              <a:rPr b="1" lang="en-US" sz="3200" spc="-1" strike="noStrike">
                <a:solidFill>
                  <a:srgbClr val="ff3300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．表示同一量的两个不同式子相等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171960" y="517680"/>
            <a:ext cx="2770200" cy="947520"/>
            <a:chOff x="3171960" y="517680"/>
            <a:chExt cx="2770200" cy="947520"/>
          </a:xfrm>
        </p:grpSpPr>
        <p:sp>
          <p:nvSpPr>
            <p:cNvPr id="275" name=""/>
            <p:cNvSpPr txBox="1"/>
            <p:nvPr/>
          </p:nvSpPr>
          <p:spPr>
            <a:xfrm>
              <a:off x="3171960" y="741240"/>
              <a:ext cx="1441440" cy="60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5035680" y="51768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d"/>
  </p:transition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8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6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1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6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1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6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303200" y="1857240"/>
            <a:ext cx="69706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现在你能回答前面提到的古老的代数书中的“对消”与“还原”是什么意思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127160" y="593640"/>
            <a:ext cx="1571760" cy="1627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6475320" y="3579840"/>
            <a:ext cx="2381400" cy="19051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332000" y="4532400"/>
            <a:ext cx="4716360" cy="1373040"/>
          </a:xfrm>
          <a:prstGeom prst="wedgeRoundRectCallout">
            <a:avLst>
              <a:gd name="adj1" fmla="val 64912"/>
              <a:gd name="adj2" fmla="val -52194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对消”与“还原”就是“合并”与“移项”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2496960" y="593640"/>
            <a:ext cx="6123240" cy="62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50920" y="493560"/>
            <a:ext cx="71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方程的解法对吗？如果不对，应怎样改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50840" y="249084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移项，得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25760" y="41274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合并同类项，得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182600" y="1488960"/>
            <a:ext cx="2679840" cy="10526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830240" y="3009960"/>
            <a:ext cx="2219400" cy="9698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6129360" y="3009960"/>
            <a:ext cx="1986120" cy="880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2816280" y="4603680"/>
            <a:ext cx="1141200" cy="9558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6256440" y="4646520"/>
            <a:ext cx="1149120" cy="792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6283440" y="6031080"/>
            <a:ext cx="1136520" cy="4111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2844720" y="5786280"/>
            <a:ext cx="900360" cy="900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63840" y="5467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系数化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9"/>
          <a:stretch/>
        </p:blipFill>
        <p:spPr>
          <a:xfrm>
            <a:off x="4143240" y="3157560"/>
            <a:ext cx="621000" cy="6206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0"/>
          <a:stretch/>
        </p:blipFill>
        <p:spPr>
          <a:xfrm>
            <a:off x="4199040" y="5994360"/>
            <a:ext cx="620640" cy="6206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1"/>
          <a:stretch/>
        </p:blipFill>
        <p:spPr>
          <a:xfrm>
            <a:off x="4186080" y="4803840"/>
            <a:ext cx="621000" cy="6206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2"/>
          <a:stretch/>
        </p:blipFill>
        <p:spPr>
          <a:xfrm>
            <a:off x="4933800" y="2951280"/>
            <a:ext cx="939960" cy="939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3"/>
          <a:stretch/>
        </p:blipFill>
        <p:spPr>
          <a:xfrm>
            <a:off x="4981680" y="4610160"/>
            <a:ext cx="939600" cy="9396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4"/>
          <a:stretch/>
        </p:blipFill>
        <p:spPr>
          <a:xfrm>
            <a:off x="5068800" y="5786280"/>
            <a:ext cx="939960" cy="939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020600" y="2847960"/>
            <a:ext cx="696276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．移项时，通常把含有未知数的项移到等号的左边，把常数项移到等号的右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幼圆"/>
                <a:ea typeface="幼圆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．移项要改变符号</a:t>
            </a:r>
            <a:r>
              <a:rPr b="1" lang="en-US" sz="3200" spc="-1" strike="noStrike">
                <a:solidFill>
                  <a:srgbClr val="ff3300"/>
                </a:solidFill>
                <a:latin typeface="幼圆"/>
                <a:ea typeface="幼圆"/>
              </a:rPr>
              <a:t>.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33720" y="563400"/>
            <a:ext cx="3795840" cy="1833480"/>
            <a:chOff x="3033720" y="563400"/>
            <a:chExt cx="3795840" cy="1833480"/>
          </a:xfrm>
        </p:grpSpPr>
        <p:pic>
          <p:nvPicPr>
            <p:cNvPr id="301" name="" descr=""/>
            <p:cNvPicPr/>
            <p:nvPr/>
          </p:nvPicPr>
          <p:blipFill>
            <a:blip r:embed="rId2"/>
            <a:stretch/>
          </p:blipFill>
          <p:spPr>
            <a:xfrm>
              <a:off x="4995720" y="563400"/>
              <a:ext cx="183384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File"/>
            <p:cNvSpPr/>
            <p:nvPr/>
          </p:nvSpPr>
          <p:spPr>
            <a:xfrm>
              <a:off x="3033720" y="595080"/>
              <a:ext cx="2041560" cy="83340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cc3300"/>
                </a:gs>
                <a:gs pos="100000">
                  <a:srgbClr val="0000ff"/>
                </a:gs>
              </a:gsLst>
              <a:lin ang="5400000"/>
            </a:gradFill>
            <a:ln w="25560">
              <a:solidFill>
                <a:srgbClr val="0000ff"/>
              </a:solidFill>
              <a:miter/>
            </a:ln>
            <a:effectLst>
              <a:outerShdw dist="143570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注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8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4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50760" y="914400"/>
            <a:ext cx="33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5120" y="1281240"/>
            <a:ext cx="805500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有一列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一定的规律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·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其中某三个相邻数的和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53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这三个数各是多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93720" y="3300480"/>
            <a:ext cx="72057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设这三个相邻数中的第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数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那么第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数就是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第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数就是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根据这三个数的和是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53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 53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8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8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1" dur="8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8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8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8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8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8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8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8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1" dur="8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8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8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8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1" dur="8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8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8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328760" y="1473120"/>
            <a:ext cx="716292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合并同类项，得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 53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系数化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=5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所以  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x=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 024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 04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这三个数是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1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 02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 04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5962680" y="1676520"/>
            <a:ext cx="1520640" cy="1850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7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2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7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2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7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2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716040" y="1761840"/>
            <a:ext cx="77072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有一列数，按一定规律排列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5··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其中某三个相邻数的和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 12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这三个数各是多少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015920" y="355680"/>
            <a:ext cx="2620800" cy="852480"/>
            <a:chOff x="1015920" y="355680"/>
            <a:chExt cx="2620800" cy="852480"/>
          </a:xfrm>
        </p:grpSpPr>
        <p:sp>
          <p:nvSpPr>
            <p:cNvPr id="310" name=""/>
            <p:cNvSpPr/>
            <p:nvPr/>
          </p:nvSpPr>
          <p:spPr>
            <a:xfrm>
              <a:off x="1484280" y="41436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" descr=""/>
            <p:cNvPicPr/>
            <p:nvPr/>
          </p:nvPicPr>
          <p:blipFill>
            <a:blip r:embed="rId2"/>
            <a:stretch/>
          </p:blipFill>
          <p:spPr>
            <a:xfrm>
              <a:off x="1015920" y="35568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"/>
          <p:cNvSpPr/>
          <p:nvPr/>
        </p:nvSpPr>
        <p:spPr>
          <a:xfrm>
            <a:off x="1484280" y="3538440"/>
            <a:ext cx="6634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设这三个相邻数中的第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数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那么第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数就是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第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数就是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5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根据这三个数的和是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3 12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5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3 12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6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1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6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1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6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614520" y="1125360"/>
            <a:ext cx="7790760" cy="5068800"/>
            <a:chOff x="614520" y="1125360"/>
            <a:chExt cx="7790760" cy="5068800"/>
          </a:xfrm>
        </p:grpSpPr>
        <p:sp>
          <p:nvSpPr>
            <p:cNvPr id="54" name=""/>
            <p:cNvSpPr txBox="1"/>
            <p:nvPr/>
          </p:nvSpPr>
          <p:spPr>
            <a:xfrm>
              <a:off x="1523880" y="1125360"/>
              <a:ext cx="6343200" cy="111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ff00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华文中宋"/>
                </a:rPr>
                <a:t>3.2</a:t>
              </a:r>
              <a:r>
                <a:rPr b="1" lang="zh-CN" sz="18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ff00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华文中宋"/>
                </a:rPr>
                <a:t>　解一元一次方程（一）</a:t>
              </a:r>
              <a:endParaRPr b="1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  <a:ea typeface="华文中宋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ff00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华文中宋"/>
                </a:rPr>
                <a:t>　　　——合并同类项与移项</a:t>
              </a:r>
              <a:endParaRPr b="1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  <a:ea typeface="华文中宋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614520" y="3581280"/>
              <a:ext cx="3454200" cy="2590920"/>
            </a:xfrm>
            <a:prstGeom prst="rect">
              <a:avLst/>
            </a:prstGeom>
            <a:ln w="25560">
              <a:solidFill>
                <a:srgbClr val="00ffff"/>
              </a:solidFill>
              <a:miter/>
            </a:ln>
            <a:effectLst>
              <a:outerShdw dist="107932" dir="2700000" blurRad="0" rotWithShape="0">
                <a:srgbClr val="00ccff">
                  <a:alpha val="50000"/>
                </a:srgbClr>
              </a:outerShdw>
            </a:effectLst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186240" y="3066840"/>
              <a:ext cx="2219040" cy="3127320"/>
            </a:xfrm>
            <a:prstGeom prst="rect">
              <a:avLst/>
            </a:prstGeom>
            <a:ln w="25560">
              <a:solidFill>
                <a:srgbClr val="00ffff"/>
              </a:solidFill>
              <a:miter/>
            </a:ln>
            <a:effectLst>
              <a:outerShdw dist="107932" dir="2700000" blurRad="0" rotWithShape="0">
                <a:srgbClr val="00ccff">
                  <a:alpha val="50000"/>
                </a:srgbClr>
              </a:outerShdw>
            </a:effectLst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3803400" y="2798640"/>
              <a:ext cx="2234880" cy="1832040"/>
            </a:xfrm>
            <a:prstGeom prst="rect">
              <a:avLst/>
            </a:prstGeom>
            <a:ln w="25560">
              <a:solidFill>
                <a:srgbClr val="00ffff"/>
              </a:solidFill>
              <a:miter/>
            </a:ln>
            <a:effectLst>
              <a:outerShdw dist="107932" dir="2700000" blurRad="0" rotWithShape="0">
                <a:srgbClr val="00ccff">
                  <a:alpha val="50000"/>
                </a:srgbClr>
              </a:outerShdw>
            </a:effectLst>
          </p:spPr>
        </p:pic>
      </p:grp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328760" y="1473120"/>
            <a:ext cx="716292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合并同类项，得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9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3 12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系数化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=62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所以  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x=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 125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5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 62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这三个数是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2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 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 12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 62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49" dur="2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6" dur="1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3" dur="1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10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65160" y="536400"/>
            <a:ext cx="74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三个连续的奇数的和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求这三个奇数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00200" y="1660680"/>
            <a:ext cx="66340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设这三个相奇数中的第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数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那么第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数就是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第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数就是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根据这三个数的和是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＋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解，得　　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所以第第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数就是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第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数就是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这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奇数是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452600" y="2122560"/>
            <a:ext cx="66340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设这三个相奇数中的第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数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那么第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数就是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第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数就是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根据这三个数的和是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＋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解，得　　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因为　不是奇数，所以不存在这样的三个奇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38160" y="814320"/>
            <a:ext cx="674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如果三个连续奇数的和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你能求出这三个奇数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643280" y="4600440"/>
            <a:ext cx="462240" cy="8208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2930400" y="5126040"/>
            <a:ext cx="462240" cy="820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771" dur="indefinite" restart="never" nodeType="tmRoot">
          <p:childTnLst>
            <p:seq>
              <p:cTn id="1772" dur="indefinite" nodeType="mainSeq">
                <p:childTnLst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5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6" dur="2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2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2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3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9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0" dur="2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2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4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500"/>
                            </p:stCondLst>
                            <p:childTnLst>
                              <p:par>
                                <p:cTn id="18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8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8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8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8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09480" y="579600"/>
            <a:ext cx="8153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某月内，李老师要参加三天的学习培训，现在知道这三天的日期的数字之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培训时间是连续的三天，你知道这几天分别是当月的哪几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若培训时间是连续三周的周六，那这几天又分是当月的哪几号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86040" y="42750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886040" y="52880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845" dur="indefinite" restart="never" nodeType="tmRoot">
          <p:childTnLst>
            <p:seq>
              <p:cTn id="1846" dur="indefinite" nodeType="mainSeq">
                <p:childTnLst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8880" y="896760"/>
            <a:ext cx="73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根据下面的两种移动电话计费方式表，考虑下列问题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8880" y="4703400"/>
            <a:ext cx="763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一个月本地通话时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，计算按两种移动电话计费方式各需要交费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会出现两种移动电话计费方式收费一样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758880" y="2135160"/>
          <a:ext cx="7354800" cy="2108160"/>
        </p:xfrm>
        <a:graphic>
          <a:graphicData uri="http://schemas.openxmlformats.org/drawingml/2006/table">
            <a:tbl>
              <a:tblPr/>
              <a:tblGrid>
                <a:gridCol w="2298600"/>
                <a:gridCol w="2298960"/>
                <a:gridCol w="2757240"/>
              </a:tblGrid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式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式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月租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-方正超大字符集"/>
                        </a:rPr>
                        <a:t>5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元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-方正超大字符集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元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本地通话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-方正超大字符集"/>
                        </a:rPr>
                        <a:t>0.3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元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-方正超大字符集"/>
                        </a:rPr>
                        <a:t>0.5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元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d"/>
  </p:transition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9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2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146240" y="12175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506600" y="2370240"/>
          <a:ext cx="6418080" cy="2289240"/>
        </p:xfrm>
        <a:graphic>
          <a:graphicData uri="http://schemas.openxmlformats.org/drawingml/2006/table">
            <a:tbl>
              <a:tblPr/>
              <a:tblGrid>
                <a:gridCol w="1798200"/>
                <a:gridCol w="2565360"/>
                <a:gridCol w="2054520"/>
              </a:tblGrid>
              <a:tr h="82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方式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方式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50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95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85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00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40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60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vert"/>
  </p:transition>
  <p:timing>
    <p:tnLst>
      <p:par>
        <p:cTn id="1893" dur="indefinite" restart="never" nodeType="tmRoot">
          <p:childTnLst>
            <p:seq>
              <p:cTn id="1894" dur="indefinite" nodeType="mainSeq">
                <p:childTnLst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9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41520" y="1447920"/>
            <a:ext cx="80643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设累计通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分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则按方式一要收费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0+0.3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元，按方式二要收费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.4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如果两种移动电话计费方式收费一样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则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0+0.3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.4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移项，得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.3t-0.4t=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合并同类项，得 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.1t=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系数化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得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=4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由上可知，如果一个月内通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0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分，那么两种计费方式的收费一样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1101600" y="484200"/>
            <a:ext cx="6997680" cy="539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906" dur="indefinite" restart="never" nodeType="tmRoot">
          <p:childTnLst>
            <p:seq>
              <p:cTn id="1907" dur="indefinite" nodeType="mainSeq">
                <p:childTnLst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2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2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7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2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7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80920" y="2309760"/>
            <a:ext cx="72471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分别乘两辆小汽车赶往火车站，其中一辆小汽车在距离火车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的地方出了故障，此时离火车停止检票时间还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，这时唯一可以利用的交通工具只有一辆小汽车，连司机在内限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，这辆小汽车的平均速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能赶上火车吗？（设走行速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349280" y="841320"/>
            <a:ext cx="2620800" cy="852480"/>
            <a:chOff x="1349280" y="841320"/>
            <a:chExt cx="2620800" cy="852480"/>
          </a:xfrm>
        </p:grpSpPr>
        <p:sp>
          <p:nvSpPr>
            <p:cNvPr id="332" name=""/>
            <p:cNvSpPr/>
            <p:nvPr/>
          </p:nvSpPr>
          <p:spPr>
            <a:xfrm>
              <a:off x="1817640" y="90000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1349280" y="84132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</p:transition>
  <p:timing>
    <p:tnLst>
      <p:par>
        <p:cTn id="1938" dur="indefinite" restart="never" nodeType="tmRoot">
          <p:childTnLst>
            <p:seq>
              <p:cTn id="1939" dur="indefinite" nodeType="mainSeq">
                <p:childTnLst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79520" y="1376280"/>
            <a:ext cx="7993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第一种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小汽车分二批送这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，若第二批人在原地不动，那么小汽车来回要走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×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千米，所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间为                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分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&gt;4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分，因此，单靠汽车来回接送无法使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都赶上火车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第二种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若在汽车送第一批人的同时，其他人先步行，可以节省时间，汽车送完第一批人后，用了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758960" y="3182760"/>
            <a:ext cx="1231920" cy="8766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212840" y="750960"/>
            <a:ext cx="50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此题可分类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9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2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127160" y="698400"/>
            <a:ext cx="72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小时与第二批人相遇，再用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小时送到火车站，则列方程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2338560" y="1879560"/>
            <a:ext cx="3771720" cy="876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247840" y="30560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3286080" y="2933640"/>
            <a:ext cx="1168560" cy="876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287360" y="4100400"/>
            <a:ext cx="704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所用时间为：                                 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因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0.4&lt;4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因此，这时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能赶上火车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3486240" y="3909960"/>
            <a:ext cx="2908080" cy="13464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1521000" y="4818240"/>
            <a:ext cx="3530520" cy="876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4" dur="8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5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95160" y="2255760"/>
            <a:ext cx="74772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知识与能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 能根据实际问题，建立数学模型——一元一次方程，来解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能在解方程中，正确合并同类项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23840" y="450720"/>
            <a:ext cx="2849400" cy="1709640"/>
            <a:chOff x="2823840" y="450720"/>
            <a:chExt cx="2849400" cy="1709640"/>
          </a:xfrm>
        </p:grpSpPr>
        <p:sp>
          <p:nvSpPr>
            <p:cNvPr id="60" name="filecab3"/>
            <p:cNvSpPr/>
            <p:nvPr/>
          </p:nvSpPr>
          <p:spPr>
            <a:xfrm rot="10800000">
              <a:off x="2823840" y="132192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3441600" y="45072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018200" y="942840"/>
            <a:ext cx="1197000" cy="835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06560" y="1058760"/>
            <a:ext cx="702000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第三种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这辆汽车行驶到途中一定位置时放下第一批人，然后掉头再接另一批人，使得两批人同时到达火车站，那么这时所用时间更少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2192400" y="3664080"/>
            <a:ext cx="4514760" cy="2458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038" dur="indefinite" restart="never" nodeType="tmRoot">
          <p:childTnLst>
            <p:seq>
              <p:cTn id="2039" dur="indefinite" nodeType="mainSeq">
                <p:childTnLst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609480" y="609480"/>
            <a:ext cx="7924680" cy="3238560"/>
            <a:chOff x="609480" y="609480"/>
            <a:chExt cx="7924680" cy="3238560"/>
          </a:xfrm>
        </p:grpSpPr>
        <p:sp>
          <p:nvSpPr>
            <p:cNvPr id="347" name=""/>
            <p:cNvSpPr/>
            <p:nvPr/>
          </p:nvSpPr>
          <p:spPr>
            <a:xfrm>
              <a:off x="609480" y="609480"/>
              <a:ext cx="7924680" cy="24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）一位老商人在临死前，把他的儿子叫到床前，他要把他一生积蓄的金币分给儿子们，让大儿子拿出一枚金币后，再把盘里的       分给他；然后让二儿子拿二枚金币后，再分盘里的       给他；让二儿子拿三枚金币后，再分盘里的       给他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···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照这样分法分下去，让最后一个儿子拿完金币后，金币恰好分完，面且每个儿子得到的金币数相等，请你算一算，老商人一生攒了多少枚金币？他共有几个儿子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6918120" y="1752480"/>
              <a:ext cx="26676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3"/>
            <a:stretch/>
          </p:blipFill>
          <p:spPr>
            <a:xfrm>
              <a:off x="7581960" y="2971800"/>
              <a:ext cx="2664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4"/>
            <a:stretch/>
          </p:blipFill>
          <p:spPr>
            <a:xfrm>
              <a:off x="7881840" y="2347920"/>
              <a:ext cx="266760" cy="876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mb dir="horz"/>
  </p:transition>
  <p:timing>
    <p:tnLst>
      <p:par>
        <p:cTn id="2048" dur="indefinite" restart="never" nodeType="tmRoot">
          <p:childTnLst>
            <p:seq>
              <p:cTn id="2049" dur="indefinite" nodeType="mainSeq">
                <p:childTnLst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1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5" dur="4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4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533520" y="703440"/>
            <a:ext cx="82296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分析：设老商人共积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枚金币，大儿子拿出一枚后，盘里还剩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枚，大儿子又拿了盘中的    ，因此大儿子共得金币                                  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此时盘中剩                                       枚，被二儿子拿走二枚后，盘中还剩                                              枚．二儿子又分得此时盘中的         ，因此二儿子共得到金币                                                        枚 ．根据所有儿子得到的金币都相等，可列出方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1066680" y="1998720"/>
            <a:ext cx="231840" cy="7621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5334120" y="1998720"/>
            <a:ext cx="2108160" cy="8762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2514600" y="2593800"/>
            <a:ext cx="3251160" cy="8766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3886200" y="3251160"/>
            <a:ext cx="3835440" cy="8762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5519880" y="3998880"/>
            <a:ext cx="231480" cy="7621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7"/>
          <a:stretch/>
        </p:blipFill>
        <p:spPr>
          <a:xfrm>
            <a:off x="2112840" y="4594320"/>
            <a:ext cx="4838760" cy="876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59" dur="indefinite" restart="never" nodeType="tmRoot">
          <p:childTnLst>
            <p:seq>
              <p:cTn id="2060" dur="indefinite" nodeType="mainSeq">
                <p:childTnLst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6883560" cy="8222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127160" y="752400"/>
            <a:ext cx="667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解：设老商人一生积攒了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枚金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列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43000" y="29718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去括号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124080" y="2819520"/>
            <a:ext cx="4673880" cy="8762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1143000" y="39625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2895480" y="3809880"/>
            <a:ext cx="4660920" cy="8766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219320" y="5029200"/>
            <a:ext cx="30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合并同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4038480" y="4876920"/>
            <a:ext cx="1702080" cy="8762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219320" y="5867280"/>
            <a:ext cx="27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系数化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09880" y="5867280"/>
            <a:ext cx="20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096" dur="indefinite" restart="never" nodeType="tmRoot">
          <p:childTnLst>
            <p:seq>
              <p:cTn id="2097" dur="indefinite" nodeType="mainSeq">
                <p:childTnLst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554120" y="1338120"/>
            <a:ext cx="64166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即老商人共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枚金币，大儿子分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因为所有儿子分得的金币数都相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因此老商人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1646280" y="1886040"/>
            <a:ext cx="3467160" cy="8762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3780000" y="3552840"/>
            <a:ext cx="2552400" cy="8762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669960" y="4776840"/>
            <a:ext cx="6797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答：老商人一生积攒了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枚金币，他共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儿子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147" dur="indefinite" restart="never" nodeType="tmRoot">
          <p:childTnLst>
            <p:seq>
              <p:cTn id="2148" dur="indefinite" nodeType="mainSeq">
                <p:childTnLst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3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3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6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7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209600" y="157644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用一元一次方程分析并解决实际问题的基本过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2814480"/>
            <a:ext cx="228600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实际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638680" y="2814480"/>
            <a:ext cx="269244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数学问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（一元一次方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5162400"/>
            <a:ext cx="228600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实际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的答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67480" y="5191200"/>
            <a:ext cx="2460600" cy="914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数学问题的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x=a</a:t>
            </a: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971800" y="3271680"/>
            <a:ext cx="2666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781680" y="3728880"/>
            <a:ext cx="0" cy="1447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971800" y="5634000"/>
            <a:ext cx="2666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52480" y="3728880"/>
            <a:ext cx="0" cy="1447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733920" y="5634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检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33920" y="272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列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38760" y="3819600"/>
            <a:ext cx="7621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116160" y="438120"/>
            <a:ext cx="2770200" cy="947880"/>
            <a:chOff x="3116160" y="438120"/>
            <a:chExt cx="2770200" cy="947880"/>
          </a:xfrm>
        </p:grpSpPr>
        <p:sp>
          <p:nvSpPr>
            <p:cNvPr id="385" name=""/>
            <p:cNvSpPr txBox="1"/>
            <p:nvPr/>
          </p:nvSpPr>
          <p:spPr>
            <a:xfrm>
              <a:off x="3116160" y="66204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386" name="" descr=""/>
            <p:cNvPicPr/>
            <p:nvPr/>
          </p:nvPicPr>
          <p:blipFill>
            <a:blip r:embed="rId6"/>
            <a:stretch/>
          </p:blipFill>
          <p:spPr>
            <a:xfrm>
              <a:off x="4979880" y="438120"/>
              <a:ext cx="906480" cy="947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lu"/>
  </p:transition>
  <p:timing>
    <p:tnLst>
      <p:par>
        <p:cTn id="2177" dur="indefinite" restart="never" nodeType="tmRoot">
          <p:childTnLst>
            <p:seq>
              <p:cTn id="2178" dur="indefinite" nodeType="mainSeq">
                <p:childTnLst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219320" y="2286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简单方程解法步骤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568520" y="3200400"/>
            <a:ext cx="45702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移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合并同类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系数化为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879280" y="0"/>
            <a:ext cx="2849400" cy="1709640"/>
            <a:chOff x="2879280" y="0"/>
            <a:chExt cx="2849400" cy="1709640"/>
          </a:xfrm>
        </p:grpSpPr>
        <p:sp>
          <p:nvSpPr>
            <p:cNvPr id="390" name="filecab3"/>
            <p:cNvSpPr/>
            <p:nvPr/>
          </p:nvSpPr>
          <p:spPr>
            <a:xfrm rot="10800000">
              <a:off x="287928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课堂小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" name="" descr=""/>
            <p:cNvPicPr/>
            <p:nvPr/>
          </p:nvPicPr>
          <p:blipFill>
            <a:blip r:embed="rId5"/>
            <a:stretch/>
          </p:blipFill>
          <p:spPr>
            <a:xfrm>
              <a:off x="349704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plit dir="in" orient="vert"/>
    <p:sndAc>
      <p:stSnd>
        <p:snd r:embed="rId6" name="chimes.wav"/>
      </p:stSnd>
    </p:sndAc>
  </p:transition>
  <p:timing>
    <p:tnLst>
      <p:par>
        <p:cTn id="2235" dur="indefinite" restart="never" nodeType="tmRoot">
          <p:childTnLst>
            <p:seq>
              <p:cTn id="2236" dur="indefinite" nodeType="mainSeq">
                <p:childTnLst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066680" y="9144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用一元一次方程分析并解决实际问题的基本过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2486160"/>
            <a:ext cx="228600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实际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2486160"/>
            <a:ext cx="269244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数学问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（一元一次方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4834080"/>
            <a:ext cx="228600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实际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的答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67480" y="4862520"/>
            <a:ext cx="2460600" cy="914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数学问题的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x=a</a:t>
            </a: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971800" y="2943360"/>
            <a:ext cx="2666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81680" y="3400560"/>
            <a:ext cx="0" cy="1447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971800" y="5305320"/>
            <a:ext cx="2666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752480" y="3400560"/>
            <a:ext cx="0" cy="1447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733920" y="53053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检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23954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列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638760" y="3490920"/>
            <a:ext cx="7621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253" dur="indefinite" restart="never" nodeType="tmRoot">
          <p:childTnLst>
            <p:seq>
              <p:cTn id="2254" dur="indefinite" nodeType="mainSeq">
                <p:childTnLst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762120" y="2387520"/>
            <a:ext cx="777240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 若方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解也是方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方程                              的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4359240" y="3773520"/>
            <a:ext cx="2489400" cy="8636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914400" y="4444920"/>
            <a:ext cx="1104840" cy="8636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514600" y="32259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733920" y="4521240"/>
            <a:ext cx="80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117600" y="52560"/>
            <a:ext cx="2849400" cy="1709640"/>
            <a:chOff x="3117600" y="52560"/>
            <a:chExt cx="2849400" cy="1709640"/>
          </a:xfrm>
        </p:grpSpPr>
        <p:sp>
          <p:nvSpPr>
            <p:cNvPr id="410" name="filecab3"/>
            <p:cNvSpPr/>
            <p:nvPr/>
          </p:nvSpPr>
          <p:spPr>
            <a:xfrm rot="10800000">
              <a:off x="3117600" y="92376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随堂练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1" name="" descr=""/>
            <p:cNvPicPr/>
            <p:nvPr/>
          </p:nvPicPr>
          <p:blipFill>
            <a:blip r:embed="rId4"/>
            <a:stretch/>
          </p:blipFill>
          <p:spPr>
            <a:xfrm>
              <a:off x="3735360" y="5256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6419880" y="521028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2299" dur="indefinite" restart="never" nodeType="tmRoot">
          <p:childTnLst>
            <p:seq>
              <p:cTn id="2300" dur="indefinite" nodeType="mainSeq">
                <p:childTnLst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057320" y="105264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解下列方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1104840" y="2514600"/>
            <a:ext cx="7315200" cy="31194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5448240" y="251460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448240" y="318456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353360" y="425124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322800" y="51148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7164360" y="1373040"/>
            <a:ext cx="1141560" cy="1141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336" dur="indefinite" restart="never" nodeType="tmRoot">
          <p:childTnLst>
            <p:seq>
              <p:cTn id="2337" dur="indefinite" nodeType="mainSeq">
                <p:childTnLst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41400" y="2629080"/>
            <a:ext cx="74311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过程与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由实际问题引入，进一步熟悉列方程解应用题的分析步骤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渗透运用数学问题来解决实际问题的建模思想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14440" y="395280"/>
            <a:ext cx="2849400" cy="1709640"/>
            <a:chOff x="3214440" y="395280"/>
            <a:chExt cx="2849400" cy="1709640"/>
          </a:xfrm>
        </p:grpSpPr>
        <p:sp>
          <p:nvSpPr>
            <p:cNvPr id="65" name="filecab3"/>
            <p:cNvSpPr/>
            <p:nvPr/>
          </p:nvSpPr>
          <p:spPr>
            <a:xfrm rot="10800000">
              <a:off x="3214440" y="126648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3832200" y="39528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in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731880" y="463680"/>
            <a:ext cx="75438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已知：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2x+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4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取何值时，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y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01920" y="1604880"/>
            <a:ext cx="623232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由题意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x+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合并同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系数化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所以当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，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= y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2375" dur="indefinite" restart="never" nodeType="tmRoot">
          <p:childTnLst>
            <p:seq>
              <p:cTn id="2376" dur="indefinite" nodeType="mainSeq">
                <p:childTnLst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6" dur="8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7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6" dur="8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7" dur="8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8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8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6" dur="8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7" dur="8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8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8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6" dur="8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7" dur="8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8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8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6" dur="8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7" dur="8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8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8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6" dur="8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7" dur="8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8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8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6" dur="8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7" dur="8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8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8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6" dur="800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7" dur="8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8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8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6" dur="8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7" dur="8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8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8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019160" y="623880"/>
            <a:ext cx="723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一人问老师，他所教的班级有多少学生，老师说：“一半学生在学数学，四分之一的学生在学音乐，七分之一的学生在学外语，还剩不足六位学生正在操场踢足球．”你知道这个班有多少学生吗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28720" y="3308400"/>
            <a:ext cx="63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设这个班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学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列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2373480" y="4576680"/>
            <a:ext cx="4786200" cy="8445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373480" y="5667480"/>
            <a:ext cx="22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2016000" y="973080"/>
            <a:ext cx="4152960" cy="8762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677960" y="209880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合并同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2158920" y="2889360"/>
            <a:ext cx="2195640" cy="9903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677960" y="419580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系数化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592360" y="4863960"/>
            <a:ext cx="20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66920" y="5575320"/>
            <a:ext cx="53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这个班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学生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494" dur="indefinite" restart="never" nodeType="tmRoot">
          <p:childTnLst>
            <p:seq>
              <p:cTn id="2495" dur="indefinite" nodeType="mainSeq">
                <p:childTnLst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819000" y="493560"/>
            <a:ext cx="772812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　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明和小刚每天早晨坚持跑步，小明每秒跑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，小刚每秒跑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若他们站在百米跑道的两端同时相向起跑，那么几秒后相遇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若小明站在百米起点处，小刚站在他前面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处，两人同时同向起跑，几秒后小明追上小刚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86040" y="4183200"/>
            <a:ext cx="53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设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秒后相遇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369880" y="5014800"/>
            <a:ext cx="4883400" cy="1406520"/>
            <a:chOff x="2369880" y="5014800"/>
            <a:chExt cx="4883400" cy="1406520"/>
          </a:xfrm>
        </p:grpSpPr>
        <p:sp>
          <p:nvSpPr>
            <p:cNvPr id="435" name=""/>
            <p:cNvSpPr/>
            <p:nvPr/>
          </p:nvSpPr>
          <p:spPr>
            <a:xfrm flipV="1">
              <a:off x="2370240" y="5740200"/>
              <a:ext cx="488304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370240" y="57402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70240" y="56131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53280" y="561312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81680" y="5040360"/>
              <a:ext cx="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84640" y="5275080"/>
              <a:ext cx="79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981320" y="5275080"/>
              <a:ext cx="87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70240" y="5040360"/>
              <a:ext cx="0" cy="57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253280" y="5040360"/>
              <a:ext cx="0" cy="57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419880" y="527508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369880" y="52750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81320" y="50148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46080" y="50148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6200000">
              <a:off x="4683240" y="3519360"/>
              <a:ext cx="257040" cy="4883040"/>
            </a:xfrm>
            <a:custGeom>
              <a:avLst/>
              <a:gdLst>
                <a:gd name="textAreaLeft" fmla="*/ 164160 w 257040"/>
                <a:gd name="textAreaRight" fmla="*/ 257400 w 257040"/>
                <a:gd name="textAreaTop" fmla="*/ 127080 h 4883040"/>
                <a:gd name="textAreaBottom" fmla="*/ 4755960 h 488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09920" y="5900760"/>
              <a:ext cx="101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</p:transition>
  <p:timing>
    <p:tnLst>
      <p:par>
        <p:cTn id="2526" dur="indefinite" restart="never" nodeType="tmRoot">
          <p:childTnLst>
            <p:seq>
              <p:cTn id="2527" dur="indefinite" nodeType="mainSeq">
                <p:childTnLst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906560" y="493560"/>
            <a:ext cx="4473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可得方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合并同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系数化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两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秒后相遇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571400" y="4795920"/>
            <a:ext cx="4897800" cy="1403280"/>
            <a:chOff x="1571400" y="4795920"/>
            <a:chExt cx="4897800" cy="1403280"/>
          </a:xfrm>
        </p:grpSpPr>
        <p:sp>
          <p:nvSpPr>
            <p:cNvPr id="452" name=""/>
            <p:cNvSpPr/>
            <p:nvPr/>
          </p:nvSpPr>
          <p:spPr>
            <a:xfrm flipV="1">
              <a:off x="1586160" y="5495760"/>
              <a:ext cx="488304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86160" y="5496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86160" y="53690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69200" y="536904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64080" y="4822920"/>
              <a:ext cx="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03720" y="506736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2763720" y="5059440"/>
              <a:ext cx="15793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586160" y="48229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69200" y="4795920"/>
              <a:ext cx="0" cy="5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40560" y="5102280"/>
              <a:ext cx="15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586160" y="505944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44480" y="48070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907640" y="47959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6160" y="5510160"/>
              <a:ext cx="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69200" y="5510160"/>
              <a:ext cx="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4343400" y="5867280"/>
              <a:ext cx="21258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571400" y="5867640"/>
              <a:ext cx="21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92160" y="56070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1285920" y="3767040"/>
            <a:ext cx="56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设小明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秒后追上小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547" dur="indefinite" restart="never" nodeType="tmRoot">
          <p:childTnLst>
            <p:seq>
              <p:cTn id="2548" dur="indefinite" nodeType="mainSeq">
                <p:childTnLst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3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8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3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8" dur="5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3" dur="5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8" dur="5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3" dur="5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793880" y="1271520"/>
            <a:ext cx="57834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可得方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合并同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系数化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小明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秒后追上小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94" dur="indefinite" restart="never" nodeType="tmRoot">
          <p:childTnLst>
            <p:seq>
              <p:cTn id="2595" dur="indefinite" nodeType="mainSeq">
                <p:childTnLst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0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5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10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15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20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25" dur="500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0" dur="500"/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5" dur="500"/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0" dur="500"/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471600" y="1770120"/>
            <a:ext cx="8076960" cy="4267080"/>
          </a:xfrm>
          <a:prstGeom prst="rect">
            <a:avLst/>
          </a:prstGeom>
          <a:ln w="0">
            <a:noFill/>
          </a:ln>
        </p:spPr>
      </p:pic>
      <p:grpSp>
        <p:nvGrpSpPr>
          <p:cNvPr id="473" name=""/>
          <p:cNvGrpSpPr/>
          <p:nvPr/>
        </p:nvGrpSpPr>
        <p:grpSpPr>
          <a:xfrm>
            <a:off x="3215880" y="0"/>
            <a:ext cx="2849400" cy="1709640"/>
            <a:chOff x="3215880" y="0"/>
            <a:chExt cx="2849400" cy="1709640"/>
          </a:xfrm>
        </p:grpSpPr>
        <p:sp>
          <p:nvSpPr>
            <p:cNvPr id="474" name="filecab3"/>
            <p:cNvSpPr/>
            <p:nvPr/>
          </p:nvSpPr>
          <p:spPr>
            <a:xfrm rot="10800000">
              <a:off x="321588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习题答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5" name="" descr=""/>
            <p:cNvPicPr/>
            <p:nvPr/>
          </p:nvPicPr>
          <p:blipFill>
            <a:blip r:embed="rId3"/>
            <a:stretch/>
          </p:blipFill>
          <p:spPr>
            <a:xfrm>
              <a:off x="383364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horz"/>
  </p:transition>
  <p:timing>
    <p:tnLst>
      <p:par>
        <p:cTn id="2641" dur="indefinite" restart="never" nodeType="tmRoot">
          <p:childTnLst>
            <p:seq>
              <p:cTn id="2642" dur="indefinite" nodeType="mainSeq">
                <p:childTnLst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1031760" y="1476360"/>
            <a:ext cx="7467840" cy="3549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654" dur="indefinite" restart="never" nodeType="tmRoot">
          <p:childTnLst>
            <p:seq>
              <p:cTn id="2655" dur="indefinite" nodeType="mainSeq">
                <p:childTnLst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33520" y="1449360"/>
            <a:ext cx="8153280" cy="4419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61" dur="indefinite" restart="never" nodeType="tmRoot">
          <p:childTnLst>
            <p:seq>
              <p:cTn id="2662" dur="indefinite" nodeType="mainSeq">
                <p:childTnLst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25600" y="2529000"/>
            <a:ext cx="784836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情感态度与价值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通过引导发现，培养独立思考问题的能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通过学习，更加关注生活，增强用数学的意识，从而激发学习数学的热情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026880" y="395280"/>
            <a:ext cx="2849400" cy="1709640"/>
            <a:chOff x="3026880" y="395280"/>
            <a:chExt cx="2849400" cy="1709640"/>
          </a:xfrm>
        </p:grpSpPr>
        <p:sp>
          <p:nvSpPr>
            <p:cNvPr id="69" name="filecab3"/>
            <p:cNvSpPr/>
            <p:nvPr/>
          </p:nvSpPr>
          <p:spPr>
            <a:xfrm rot="10800000">
              <a:off x="3026880" y="126648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3644640" y="39528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in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84120" y="2252520"/>
            <a:ext cx="671364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重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未知数，列方程，用合并及等式性质解方程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难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建立方程时寻找“相等关系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合并时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前面的系数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784600" y="276120"/>
            <a:ext cx="3551040" cy="1692000"/>
            <a:chOff x="2784600" y="276120"/>
            <a:chExt cx="3551040" cy="1692000"/>
          </a:xfrm>
        </p:grpSpPr>
        <p:sp>
          <p:nvSpPr>
            <p:cNvPr id="73" name="filecab3"/>
            <p:cNvSpPr/>
            <p:nvPr/>
          </p:nvSpPr>
          <p:spPr>
            <a:xfrm rot="10800000">
              <a:off x="2784600" y="1129320"/>
              <a:ext cx="3551040" cy="83844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重难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3773160" y="276120"/>
              <a:ext cx="161892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17400" y="1446120"/>
            <a:ext cx="2374920" cy="3716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00400" y="887400"/>
            <a:ext cx="5334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约公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，中亚细亚数学家阿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拉子米写了一本代数书， 阿拉伯文书名是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lm al-jabr wa’l muqabala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直译应为《还原与对消的科学》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l-jabr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意为“还原”，这里指把负项移到方程另一端“还原”为正项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uqabalah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意即“对消”或“化简”，指方程两端可以消去相同的项或合并同类项．一般认为拉丁文中代数学一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lgebr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l-jab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演变而来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3200" y="5345280"/>
            <a:ext cx="239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尔—花拉子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80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1:52:27Z</dcterms:created>
  <dc:creator/>
  <dc:description/>
  <cp:keywords/>
  <dc:language>en-US</dc:language>
  <cp:lastModifiedBy>微软用户</cp:lastModifiedBy>
  <dcterms:modified xsi:type="dcterms:W3CDTF">2014-06-30T01:12:13Z</dcterms:modified>
  <cp:revision>115</cp:revision>
  <dc:subject/>
  <dc:title>3.2 解一元一次方程（一） 合并同类项与移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  <property fmtid="{D5CDD505-2E9C-101B-9397-08002B2CF9AE}" pid="3" name="NXTAG2">
    <vt:lpwstr>00080038240000000000010250600207f7000400038000</vt:lpwstr>
  </property>
</Properties>
</file>